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BB78-8CB3-43C7-A819-6B8844D73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2AF9-DA49-4340-9BC2-66B361FF7CB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FC79-D032-469D-8291-CE920E6679A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367B-FC88-4335-A751-B1CB0E660F2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E7CA-909A-48A1-94CB-DD1D659B3FF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CA20-4D38-4AF1-B051-036FBF32DB1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A115-0CE9-4B8B-9EEE-8D707D2089B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0B99-08D1-4739-A26D-FEC9550AA71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927B-BE48-4334-823E-9979045F007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5B1A-02C2-4745-B192-4391BD4CE32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9AD3-FFC3-49B9-8BA9-7B876ECB53F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A998-9A8B-460C-B7C0-E67149B7D5D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012-3466-4758-88ED-73C8FDB6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0EB-D680-489F-BF44-AE4F0B8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E53-3819-4E3B-A68E-FC3B9625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F8E-11A0-401A-8037-F88621F0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3B9-CBC6-40AA-96C7-0010F55A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210-FA9D-4194-AC30-C80CB1D1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871-44AF-4051-B468-6B130A19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107-C7AC-403F-8319-047E211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963-A386-4C15-8DB6-68AB83C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88C-2397-4064-9E24-6DC918C8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FA5-504F-4618-9692-97B59CA1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7F8-DD11-4C2C-91B6-4522E6D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D002-385F-4A06-B718-EED1232AE0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BE07-F32B-4CF6-BC8C-FD1EF85E08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DF15-3B1D-4185-BDDB-7C50321D42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420D-F21E-4406-AE44-FF062BE21D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„reprint author“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F123-8254-4233-B2AB-85BD9CE435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změ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D16D-0F0E-467C-B413-A4DA995405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2536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98472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611280" y="461952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, národní úroveň, gesce RV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délník 9"/>
          <p:cNvSpPr/>
          <p:nvPr/>
        </p:nvSpPr>
        <p:spPr>
          <a:xfrm>
            <a:off x="4859280" y="45813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3+M4+M5 (úroveň poskytovate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BBEE-4B95-4B1B-BB26-3547854E3A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79640" y="1483920"/>
            <a:ext cx="4679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3 + M4 + M5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-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konkrétní podoby M1+M2 bude zahájeno po zformulování doporučení plynoucích z Hodnocení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6"/>
          <p:cNvSpPr/>
          <p:nvPr/>
        </p:nvSpPr>
        <p:spPr>
          <a:xfrm>
            <a:off x="395280" y="26028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65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délník 15" descr=""/>
            <p:cNvPicPr/>
            <p:nvPr/>
          </p:nvPicPr>
          <p:blipFill>
            <a:blip r:embed="rId1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Obdélník 16" descr=""/>
            <p:cNvPicPr/>
            <p:nvPr/>
          </p:nvPicPr>
          <p:blipFill>
            <a:blip r:embed="rId2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Obdélník 17" descr=""/>
            <p:cNvPicPr/>
            <p:nvPr/>
          </p:nvPicPr>
          <p:blipFill>
            <a:blip r:embed="rId3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F2C5-2A95-42D5-B17C-7EBE7AA486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67120" y="1988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6"/>
          <p:cNvSpPr/>
          <p:nvPr/>
        </p:nvSpPr>
        <p:spPr>
          <a:xfrm>
            <a:off x="395280" y="333360"/>
            <a:ext cx="8064360" cy="9471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84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Obdélník 30" descr=""/>
            <p:cNvPicPr/>
            <p:nvPr/>
          </p:nvPicPr>
          <p:blipFill>
            <a:blip r:embed="rId1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Obdélník 31" descr=""/>
            <p:cNvPicPr/>
            <p:nvPr/>
          </p:nvPicPr>
          <p:blipFill>
            <a:blip r:embed="rId2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Obdélník 32" descr=""/>
            <p:cNvPicPr/>
            <p:nvPr/>
          </p:nvPicPr>
          <p:blipFill>
            <a:blip r:embed="rId3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6DFD-7E6C-47E3-AE0C-286BE4A71B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5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1DE4-DF5B-4C8F-BD76-79D77F78EC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2318-B464-4546-9A96-E50E25B061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7AE9-8F6C-4E36-BC03-8D7B61BED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18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26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31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35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Pravoúhlá spojnice 63"/>
            <p:cNvCxnSpPr>
              <a:stCxn id="128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2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7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5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C804-192B-4D62-BB75-925ACAF115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9-01-22T10:24:14Z</dcterms:modified>
  <cp:revision>167</cp:revision>
  <dc:subject/>
  <dc:title>Prezentace aplikace PowerPoint</dc:title>
</cp:coreProperties>
</file>